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96088" cy="10075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6800" cy="1007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5" name="PlaceHolder 1"/>
          <p:cNvSpPr>
            <a:spLocks noGrp="1"/>
          </p:cNvSpPr>
          <p:nvPr>
            <p:ph type="hdr"/>
          </p:nvPr>
        </p:nvSpPr>
        <p:spPr>
          <a:xfrm>
            <a:off x="0" y="0"/>
            <a:ext cx="2944800" cy="503280"/>
          </a:xfrm>
          <a:prstGeom prst="rect">
            <a:avLst/>
          </a:prstGeom>
          <a:noFill/>
          <a:ln w="0">
            <a:noFill/>
          </a:ln>
        </p:spPr>
        <p:txBody>
          <a:bodyPr lIns="93600" rIns="93600" tIns="46800" bIns="46800" anchor="t">
            <a:noAutofit/>
          </a:bodyPr>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52720" y="0"/>
            <a:ext cx="2944800" cy="503280"/>
          </a:xfrm>
          <a:prstGeom prst="rect">
            <a:avLst/>
          </a:prstGeom>
          <a:noFill/>
          <a:ln w="0">
            <a:noFill/>
          </a:ln>
        </p:spPr>
        <p:txBody>
          <a:bodyPr lIns="93600" rIns="93600" tIns="46800" bIns="46800" anchor="t">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878040" y="755640"/>
            <a:ext cx="5040000" cy="3780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574200"/>
            <a:ext cx="2944800" cy="503280"/>
          </a:xfrm>
          <a:prstGeom prst="rect">
            <a:avLst/>
          </a:prstGeom>
          <a:noFill/>
          <a:ln w="0">
            <a:noFill/>
          </a:ln>
        </p:spPr>
        <p:txBody>
          <a:bodyPr lIns="93600" rIns="9360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52720" y="9574200"/>
            <a:ext cx="2944800" cy="50328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71EBDB7-A773-48FB-AED7-E10B6C7D49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8040" y="755640"/>
            <a:ext cx="5040000" cy="3780000"/>
          </a:xfrm>
          <a:prstGeom prst="rect">
            <a:avLst/>
          </a:prstGeom>
          <a:ln w="0">
            <a:noFill/>
          </a:ln>
        </p:spPr>
      </p:sp>
      <p:sp>
        <p:nvSpPr>
          <p:cNvPr id="175" name="PlaceHolder 2"/>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CK 6.265 str. 1 d. Jeigu asmuo, kuris nėra darbuotojas, vykdydamas kito asmens, kuris nėra darbdavys, duotą nurodymą, padaro žalos, tai abu šie asmenys atsako solidariai.</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riešinimas -&gt; CK 6.718 str. 3 d. Paslaugų teikėjas privalo teikti paslaugas pagal sutarties sąlygas ir kliento nurodymus. Jei kliento nurodymai prieštarauja sutarties įstatymams, nusistovėjusioms profesinės veiklos taisyklėms, standartams, profesinės veiklos etikai ar sutarties sąlygoms, paslaugų teikėjas turi teisę atsisakyti vykdyti tokius nurodymus ir sutartį nutraukti.</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ektroninės komercijos direktyva – nustato atsakomybės išimtis “mere conduit” (tiesiog elgesio – kai paslaugų teikėjas nežino, kokia informacija siunčiama), “caching” (laikino saugojimo), “hosting” (informacijos saugojimas) atvejais. “Hosting” atveju būtinos sąlygos yra nežinojimas, kad ši informacija ką nors pažeidžia, bei informacijos pašalinimas nedelsiant gavus tokią informaciją</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6 str.</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7 st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BCD9F-817A-4A75-86D6-F2FCA2556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45CAA-268C-4DC9-8E38-DA0BB1205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77077-F044-447E-9856-5A4D74B9D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E3A7E-4F25-4325-8FA1-69FF4BA3E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F9773-6A41-4F08-8A47-6A02B6C4E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3E529-8F89-424D-8FDC-3FB059616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9CC02-6F92-4696-99FD-B6825A115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CC209-A29F-4EB6-8BB7-45EC6705A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F965A-19F1-4989-A640-D4ADD140D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6D4E6-AA13-4ADB-ABA6-1DE2A2E5B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DB239-0057-4502-B4A5-2791BF46A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53601-EEBA-493E-8FD0-7DD918B38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757D9-50AC-4AC0-8E23-51C1555E6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DD6CD-C394-431D-9C7D-9DBE6CFBE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AC922-3C83-4FCE-8151-6EEFD3435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45AFE-F026-4DE6-A5C2-E564F7436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529BC-E609-47A7-AD43-EC2816738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8CD98-C496-4BA8-A6A0-4F87382A4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6A796-785B-4D3B-81E8-595E8D8BC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156AE-C5C0-457F-AC7D-DE9CF64AD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E5955-AAE4-4873-AD8F-EB1ECE8A0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72A4A-3D1B-40C8-A2E8-E4C21FBB7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A8F11-6A0F-4436-A855-D1A5DFED1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C81B3-80D1-4641-B8F0-9ECB884C0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6-09-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343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Times New Roman"/>
              </a:rPr>
              <a:t>© Tomas Lamanauskas, </a:t>
            </a:r>
            <a:r>
              <a:rPr b="0" lang="en-GB" sz="1400" spc="-1" strike="noStrike">
                <a:solidFill>
                  <a:srgbClr val="003366"/>
                </a:solidFill>
                <a:latin typeface="Times New Roman"/>
              </a:rPr>
              <a:t>2003-2006</a:t>
            </a:r>
            <a:endParaRPr b="0" lang="en-US" sz="1400" spc="-1" strike="noStrike">
              <a:solidFill>
                <a:srgbClr val="000000"/>
              </a:solidFill>
              <a:latin typeface="Times New Roman"/>
            </a:endParaRPr>
          </a:p>
        </p:txBody>
      </p:sp>
      <p:grpSp>
        <p:nvGrpSpPr>
          <p:cNvPr id="8" name=""/>
          <p:cNvGrpSpPr/>
          <p:nvPr/>
        </p:nvGrpSpPr>
        <p:grpSpPr>
          <a:xfrm>
            <a:off x="228600" y="1981080"/>
            <a:ext cx="7391520" cy="319320"/>
            <a:chOff x="228600" y="1981080"/>
            <a:chExt cx="7391520" cy="319320"/>
          </a:xfrm>
        </p:grpSpPr>
        <p:sp>
          <p:nvSpPr>
            <p:cNvPr id="9"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11" name="PlaceHolder 5"/>
          <p:cNvSpPr>
            <a:spLocks noGrp="1"/>
          </p:cNvSpPr>
          <p:nvPr>
            <p:ph type="sldNum" idx="3"/>
          </p:nvPr>
        </p:nvSpPr>
        <p:spPr>
          <a:xfrm>
            <a:off x="83880" y="3565080"/>
            <a:ext cx="587160" cy="326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3581280"/>
            <a:ext cx="587520" cy="326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Informatikos teisė</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Pagrindai</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unkcinis ekvivalentiškuma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alios erdvės institutų perkėlimo į elektroninę erdvę (pritaikymo šiai erdvei užtikrinimas) pagal šių institutų funkcijas</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dokument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darymas galimybių, kad būtų įskaitomas; liktų nepakeistas bėgant laikui; galima būtų padaryti dokumento kopiją taip, kad kiekviena iš šalių turėtų tuos pačius duomenis; galima būtų patvirtinti duomenis parašu; pateikti formą, kuri būtų priimtina valstybės institucijoms, įskaitant teismu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paraš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dentifikuoti asmenį; užtikrinti, kad pasirašymo veiksme asmuo dalyvavo asmeniškai; susieti asmenį su konkrečiu dokumentu (patvirtinimas, kad autorius patvirtino dokumento turinį).</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tarčių laisvė</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Leidžia sutarčių šalims (ypač verslas - verslui komercijoje) laisvai nusistatyti tarpusavio santykių principus ir formas ir įpareigoja valstybę pripažinti tokias sutartis (taip pat ir apsaugant iš jų kylančias teises)</a:t>
            </a:r>
            <a:endParaRPr b="0" lang="en-US" sz="2400" spc="-1" strike="noStrike">
              <a:solidFill>
                <a:srgbClr val="003366"/>
              </a:solidFill>
              <a:latin typeface="Arial"/>
            </a:endParaRPr>
          </a:p>
          <a:p>
            <a:pPr lvl="1" marL="743040" indent="-285840" algn="just">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o parašo įstatymo 8 straipsnio 3 dalis (įtraukta 2002 m. birželio 6 d. įstatymu) nustato, kad elektroninis parašas visais atvejais turi šio straipsnio 1 dalyje įtvirtintą teisinę galią (t.y., tokią pat teisinę galią kaip ir parašas rašytiniuose dokumentuose ir yra leistinas kaip įrodinėjimo priemonė teisme), jeigu parašų naudotojai tarpusavyje dėl to susitari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skatinima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iek tai įmanoma valstybė turi ne pati kištis, o skatinti, kad normas bendru sutarimu kurtų elektroninio verslo dalyviai ir juos atstovaujančios organizacijos (analogija darbo santykių reguliavimu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smens duomenų teisinė apsauga ir vartotojų apsauga</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pareigoja valstybę ir kitus subjektus saugoti fizinių asmenų privatumą bei užtikrinti sąžiningą elgesį su jais prekybiniuose santykiuose (taip pat ir elektroniniame vers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o principo nuoseklus taikymas ugdo vartotojų pasitikėjimą elektronine komercija ir skatina vartojim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ugumo užtikrinimas</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mpa aktualesnis, kai elektroninė komercija</a:t>
            </a:r>
            <a:r>
              <a:rPr b="0" lang="en-GB" sz="2800" spc="-1" strike="noStrike">
                <a:solidFill>
                  <a:srgbClr val="003366"/>
                </a:solidFill>
                <a:latin typeface="Arial"/>
              </a:rPr>
              <a:t> ir </a:t>
            </a:r>
            <a:r>
              <a:rPr b="0" lang="en-US" sz="2800" spc="-1" strike="noStrike">
                <a:solidFill>
                  <a:srgbClr val="003366"/>
                </a:solidFill>
                <a:latin typeface="Arial"/>
              </a:rPr>
              <a:t>kiti santykiai</a:t>
            </a:r>
            <a:r>
              <a:rPr b="0" lang="lt-LT" sz="2800" spc="-1" strike="noStrike">
                <a:solidFill>
                  <a:srgbClr val="003366"/>
                </a:solidFill>
                <a:latin typeface="Arial"/>
              </a:rPr>
              <a:t> atsiveria (naudojama ne uždaroje grupėje) ir naudoja globalius tink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is pripažinimas</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atitikti tarptautinius teisės aktus, ir užtikrinti, kad teisiniai santykiai, atsiradę pagal vienos valstybės įstatymus, bus lygiaverčiai pripažįstami kitose valstybės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Minimalus kišimasis (proporcingumas)</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būti minimalus būtinas pasiekti konkretų tikslą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utorių teisių ir gretutinių teisių apsauga</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jant informacines technologijas šias teises tampa vis lengviau pažeisti, todėl turi būti skiriamas specialus dėmesy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iškumas, prognozuojamumas, teisinis tikrumas ir teisėti lūkesčiai </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statymų leidyba ir teisės aktai turi užtikrinti, kad teisinis reguliavimas būtų aiškus ir nuspėjama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s principas apima ir </a:t>
            </a:r>
            <a:r>
              <a:rPr b="0" i="1" lang="lt-LT" sz="2800" spc="-1" strike="noStrike">
                <a:solidFill>
                  <a:srgbClr val="003366"/>
                </a:solidFill>
                <a:latin typeface="Arial"/>
              </a:rPr>
              <a:t>lex retro non agit</a:t>
            </a:r>
            <a:r>
              <a:rPr b="0" lang="lt-LT" sz="2800" spc="-1" strike="noStrike">
                <a:solidFill>
                  <a:srgbClr val="003366"/>
                </a:solidFill>
                <a:latin typeface="Arial"/>
              </a:rPr>
              <a:t> taisyklę.</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38" name="PlaceHolder 2"/>
          <p:cNvSpPr>
            <a:spLocks noGrp="1"/>
          </p:cNvSpPr>
          <p:nvPr>
            <p:ph/>
          </p:nvPr>
        </p:nvSpPr>
        <p:spPr>
          <a:xfrm>
            <a:off x="914400" y="2361960"/>
            <a:ext cx="861048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ncipai</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sutarty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uropos Sąjungos, Europos Taryb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valomi viršnacional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rektyvos, sprendimai</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statymai </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irmiausia – Civilinis kodeksa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oįstatym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roblema – ne visada laikomasi hierarchij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očiai, doktrina ir tarptautinių organizacijų dokument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ieta teisės sistem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Reguliavimo dalykas ir metod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incip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altini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R. Beliackas v. UAB “Sabina” (elektroninių įrodymų pripažinim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Lietuvos telekomo verslo sprendimai” ir AB “Lietuvos telekomas”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D.B.S. Pte. Ltd.”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R </a:t>
            </a:r>
            <a:r>
              <a:rPr b="0" lang="lt-LT" sz="2000" spc="-1" strike="noStrike">
                <a:solidFill>
                  <a:srgbClr val="003366"/>
                </a:solidFill>
                <a:latin typeface="Arial"/>
              </a:rPr>
              <a:t>Konstitucinio teismo “Kavkaz-Centr” byla (tarpininkų atsakomybė)</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Šapalas v. LTB (elektroninio parašo statusas ir pasirašymo priemonių išdavėjų bei vartotojų atsakomybės rib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ės organizacijo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uropos Bendrija (Europos Sąjunga)</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iršnacionalinis pobūdi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konominės plėtros ir bendradarbiavimo organizacija (OEC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o prekybos organizacija (WT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ungtinės tautos – Tarptautinės prekybos teisės komisija (UNCITR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a:t>
            </a:r>
            <a:r>
              <a:rPr b="0" lang="en-GB" sz="2400" spc="-1" strike="noStrike">
                <a:solidFill>
                  <a:srgbClr val="003366"/>
                </a:solidFill>
                <a:latin typeface="Arial"/>
              </a:rPr>
              <a:t>o</a:t>
            </a:r>
            <a:r>
              <a:rPr b="0" lang="lt-LT" sz="2400" spc="-1" strike="noStrike">
                <a:solidFill>
                  <a:srgbClr val="003366"/>
                </a:solidFill>
                <a:latin typeface="Arial"/>
              </a:rPr>
              <a:t> intelektinės nuosavybės organizacija (WIP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iai prekybos rūmai (IC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uropos Bendrija (Europos Sąjunga)</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999 m. </a:t>
            </a:r>
            <a:r>
              <a:rPr b="0" lang="lt-LT" sz="2400" spc="-1" strike="noStrike">
                <a:solidFill>
                  <a:srgbClr val="003366"/>
                </a:solidFill>
                <a:latin typeface="Arial"/>
              </a:rPr>
              <a:t>Elektroninio parašo </a:t>
            </a:r>
            <a:r>
              <a:rPr b="0" lang="en-GB" sz="2400" spc="-1" strike="noStrike">
                <a:solidFill>
                  <a:srgbClr val="003366"/>
                </a:solidFill>
                <a:latin typeface="Arial"/>
              </a:rPr>
              <a:t>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2000 m. </a:t>
            </a:r>
            <a:r>
              <a:rPr b="0" lang="lt-LT" sz="2400" spc="-1" strike="noStrike">
                <a:solidFill>
                  <a:srgbClr val="003366"/>
                </a:solidFill>
                <a:latin typeface="Arial"/>
              </a:rPr>
              <a:t>Elektroninės komercijos 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lektin</a:t>
            </a:r>
            <a:r>
              <a:rPr b="0" lang="lt-LT" sz="2400" spc="-1" strike="noStrike">
                <a:solidFill>
                  <a:srgbClr val="003366"/>
                </a:solidFill>
                <a:latin typeface="Arial"/>
              </a:rPr>
              <a:t>ės nuosavybė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smens duomen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rtotojų teisi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privatinės teisės harmonizavim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eisės akta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endimas dėl atakų prieš informacines siste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konominės plėtros ir bendradarbiavimo organizacija</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entrinis tarptautinis išsivysčiusių valstybių forumas, kuriam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apibendrinama įvairių valstybių praktik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eškoma unifikuotų e-komercijos sureguliavimo modelių</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BPO rekomendacijo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eisiškai neprivalom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įtvirtina stiprius valstybių-narių moralinius/politinius įsipareigojimu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ekretoriato atlikta analizė, surinkti duomenys valstybėms-narėms padeda efektyviau atlikti koordinuotą darbą</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prekybos organizacija</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saulinės prekybos liberaliz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TS – bendrasis susitarimas dėl prekybos paslaugom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RIPS – susitarimas dėl intelektinės nuosavybės aspektų, susijusių su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Jungtinių tautų tarptautinės prekybos teisės komisija</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ės prekybos teisės harmonizavimas ir kodifikavi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1996 m. P</a:t>
            </a:r>
            <a:r>
              <a:rPr b="0" lang="lt-LT" sz="2800" spc="-1" strike="noStrike">
                <a:solidFill>
                  <a:srgbClr val="003366"/>
                </a:solidFill>
                <a:latin typeface="Arial"/>
              </a:rPr>
              <a:t>avyzdinis elektroninės komercijos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2001 m. P</a:t>
            </a:r>
            <a:r>
              <a:rPr b="0" lang="lt-LT" sz="2800" spc="-1" strike="noStrike">
                <a:solidFill>
                  <a:srgbClr val="003366"/>
                </a:solidFill>
                <a:latin typeface="Arial"/>
              </a:rPr>
              <a:t>avyzdinis elektroninių parašų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konvencija dėl elektroninių ryšių naudojimo tarptautiniuose sandoriu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intelektinės nuosavybės organizacija</a:t>
            </a:r>
            <a:endParaRPr b="1" lang="en-US" sz="3600" spc="-1" strike="noStrike">
              <a:solidFill>
                <a:srgbClr val="006666"/>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ų sutarčių intelektinės nuosavybės srityje rengimas ir administr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utorių teisi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tlikimų ir fonogram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o vardų, kaip intelektinės nuosavybės, statuso tyrimai ir susijusių ginčių sprend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a</a:t>
            </a:r>
            <a:endParaRPr b="1" lang="en-US" sz="3600" spc="-1" strike="noStrike">
              <a:solidFill>
                <a:srgbClr val="0066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lektyvinis reguliavimas, siekiant suderinti bendrus interesus be valstybės pagalb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sijusi su elektroninės komercijos reguliavimo evoliucija (</a:t>
            </a:r>
            <a:r>
              <a:rPr b="0" i="1" lang="lt-LT" sz="2800" spc="-1" strike="noStrike">
                <a:solidFill>
                  <a:srgbClr val="003366"/>
                </a:solidFill>
                <a:latin typeface="Arial"/>
              </a:rPr>
              <a:t>lex electronica</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valumai</a:t>
            </a:r>
            <a:endParaRPr b="1" lang="en-US" sz="3600" spc="-1" strike="noStrike">
              <a:solidFill>
                <a:srgbClr val="006666"/>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reitas, pigus ir efektyvus </a:t>
            </a:r>
            <a:r>
              <a:rPr b="0" lang="en-US" sz="2800" spc="-1" strike="noStrike">
                <a:solidFill>
                  <a:srgbClr val="003366"/>
                </a:solidFill>
                <a:latin typeface="Arial"/>
              </a:rPr>
              <a:t>pa</a:t>
            </a:r>
            <a:r>
              <a:rPr b="0" lang="lt-LT" sz="2800" spc="-1" strike="noStrike">
                <a:solidFill>
                  <a:srgbClr val="003366"/>
                </a:solidFill>
                <a:latin typeface="Arial"/>
              </a:rPr>
              <a:t>žeidimo pašalin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ybė reaguoti į nepriimtiną, nors teisėtą elgesį</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Masinis komercinis paštas iki 2001 01 01 Lietuvoje nebuvo draudžiamas teisės aktais, bet buvo reguliuojamas bendrų savireguliacijos priemonių</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trūkumai</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ėra tiesiogiai priverstinai įvykdoma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 būti taikomos sutartinės sankcijo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miamasi savireguliacija kaip papročiu</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 tapti didesnę įtaką turinčių interneto subjektų (pvz., Interneto paslaugų teikėjų) piktnaudži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isada išlieka valstybės nustatytos taisyklės – konkurencijos teisė, vartotojų apsauga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ieta teisės sistemoje</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tikos teisė – pirmiausia konkrečios teisės šakos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Bendrosios teisės institutai (šalys, sandori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odifikuoti institutai (elektroninis parašas, elektroninė sutarti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fika - Lex mercatoria – viduramžiuose susiformavusi paprotinė komercinė (pirklių)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nalogiška elektroninės komercijos teisės pradž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uo pat pradžių buvo nereguliuojamas valstybės, o dauguma elgesio taisyklių susiklostė kaip savireguliacijos sukurti papročiai</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ėra ribojamas valstybių sienų, todėl sunku taikyti konkrečios valstybės prievartos priemon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resursai dažniausiai valdomi privačių subjektų</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ai, kaip Interneto resursų turėtojai, dažnai atsiduria tarp pažeidėjo ir nukentėjus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ų teisinės atsakomybės už vartotojų skleidžiamą informaciją įtvirtinimas teisės aktuos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formalių elgesio taisyklių skatinimas teisės aktai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eisminių ginčų sprendimo būdų skatini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quett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FC 1855, RFC 1087</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šsamus elementarių pageidautino elgesio Internete taisyklių rinkiny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isyklių pavyzdžiai:</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siųsti “karštų” (piktų) žinučių (flame)</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i laiškus</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rašyti vien didžiosiomis raidėmis (TAI LAIKOMA ŠAUKIM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 Corporation of A</a:t>
            </a:r>
            <a:r>
              <a:rPr b="0" lang="en-US" sz="2800" spc="-1" strike="noStrike">
                <a:solidFill>
                  <a:srgbClr val="003366"/>
                </a:solidFill>
                <a:latin typeface="Arial"/>
              </a:rPr>
              <a:t>s</a:t>
            </a:r>
            <a:r>
              <a:rPr b="0" lang="lt-LT" sz="2800" spc="-1" strike="noStrike">
                <a:solidFill>
                  <a:srgbClr val="003366"/>
                </a:solidFill>
                <a:latin typeface="Arial"/>
              </a:rPr>
              <a:t>signed Names and Numbers (ICAN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kurta 1998 m. Perėmė funkcijas iš JAV</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pelno organizacija, atsakinga už IP adresų ir Interneto vardų naudojim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irektoriai renkami Interneto subjektų (5 iš 19 tiesioginiais rinkimais išrinko Interneto vartotoj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990000"/>
                </a:solidFill>
                <a:latin typeface="Arial"/>
              </a:rPr>
              <a:t>Veikiantys savireguliacijos pavyzdžiai</a:t>
            </a:r>
            <a:endParaRPr b="1" lang="en-US" sz="3600" spc="-1" strike="noStrike">
              <a:solidFill>
                <a:srgbClr val="006666"/>
              </a:solidFill>
              <a:latin typeface="Arial"/>
            </a:endParaRPr>
          </a:p>
        </p:txBody>
      </p:sp>
      <p:sp>
        <p:nvSpPr>
          <p:cNvPr id="17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Uniform Domain Name Dispute Resolution Policy (UDRP)</a:t>
            </a:r>
            <a:endParaRPr b="0" lang="en-US" sz="28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Sukurtas pagal Pasaulinės intelektinės nuosavybės organizacijos (angl. WIPO) rekomendacij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Įtraukiama į Interneto vardų registravimo sutarti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Ginčus sprendžia nepriklausomų (ICANN paskirtų) organizacijų sudarytos kolegijos (administrative panel)</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Rezultatas: Interneto vardo perdavimas kitam subjektui</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Nedraudžiama spręsti ginčo teisme (tai nėra arbitraž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Dauguma ginčų baigiama be nagrinėjimo teism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7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ail Abuse Prevention System (MAP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 sąrašą įtraukiami IP adresai, iš kurių masiškai siunčiamas nepageidaujamas komercinis pašt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grindiniai Interneto paslaugų teikėjai (pvz., Teleglobe, EUnet International, kt.) blokuoja informaciją, kuri siunčiama iš/į šiuos adres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Reguliavimo objektas ir metodas</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Objektas – įvairūs visuomeniniai santykiai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varbiausia ne santykių objektas, o vykdymo būda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etoda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išrus - priklauso nuo instituto</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B</a:t>
            </a:r>
            <a:r>
              <a:rPr b="0" lang="en-GB" sz="1800" spc="-1" strike="noStrike">
                <a:solidFill>
                  <a:srgbClr val="003366"/>
                </a:solidFill>
                <a:latin typeface="Arial"/>
              </a:rPr>
              <a:t>2</a:t>
            </a:r>
            <a:r>
              <a:rPr b="0" lang="lt-LT" sz="1800" spc="-1" strike="noStrike">
                <a:solidFill>
                  <a:srgbClr val="003366"/>
                </a:solidFill>
                <a:latin typeface="Arial"/>
              </a:rPr>
              <a:t>B komercij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su Imperatyvaus metodo elementai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vartotojų apsauga, asmens duomenų apsaug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mperatyvus</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Nusikaltimai informatika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dovaujančios idėjos, esančios reguliavimo pagrin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j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glamentacinė</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ės aiškini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agų pildy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Kolizijų šalinim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nediskriminav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chnologinio neutralumo (atvir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nio ekvivalentišk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čių laisvė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os skat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smens duomenų teisinės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tojų apsaug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ugumo užtikr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o pripaž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inimalaus kišimosi (proporcing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torių teisių ir gretutinių teisių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iškumo, prognozuojamumo, teisinio tikrumo, teisėtų lūkesčių</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formos nediskriminavima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cijos teisinis efektyvumas, galiojimas ir įgyvendinimas negali būti paneigtas vien tik tuo pagrindu, kad ši informacija yra elektroninis duomenų praneš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vz., Elektroninio parašo įstatymo </a:t>
            </a:r>
            <a:r>
              <a:rPr b="0" lang="en-GB" sz="2800" spc="-1" strike="noStrike">
                <a:solidFill>
                  <a:srgbClr val="003366"/>
                </a:solidFill>
                <a:latin typeface="Arial"/>
              </a:rPr>
              <a:t>8 </a:t>
            </a:r>
            <a:r>
              <a:rPr b="0" lang="lt-LT" sz="2800" spc="-1" strike="noStrike">
                <a:solidFill>
                  <a:srgbClr val="003366"/>
                </a:solidFill>
                <a:latin typeface="Arial"/>
              </a:rPr>
              <a:t>straipsnio </a:t>
            </a:r>
            <a:r>
              <a:rPr b="0" lang="en-GB" sz="2800" spc="-1" strike="noStrike">
                <a:solidFill>
                  <a:srgbClr val="003366"/>
                </a:solidFill>
                <a:latin typeface="Arial"/>
              </a:rPr>
              <a:t>2 </a:t>
            </a:r>
            <a:r>
              <a:rPr b="0" lang="lt-LT" sz="2800" spc="-1" strike="noStrike">
                <a:solidFill>
                  <a:srgbClr val="003366"/>
                </a:solidFill>
                <a:latin typeface="Arial"/>
              </a:rPr>
              <a:t>dalies </a:t>
            </a:r>
            <a:r>
              <a:rPr b="0" lang="en-GB" sz="2800" spc="-1" strike="noStrike">
                <a:solidFill>
                  <a:srgbClr val="003366"/>
                </a:solidFill>
                <a:latin typeface="Arial"/>
              </a:rPr>
              <a:t>1 </a:t>
            </a:r>
            <a:r>
              <a:rPr b="0" lang="lt-LT" sz="2800" spc="-1" strike="noStrike">
                <a:solidFill>
                  <a:srgbClr val="003366"/>
                </a:solidFill>
                <a:latin typeface="Arial"/>
              </a:rPr>
              <a:t>punkt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chnologinis neutraluma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ės aktų (ar valstybės politikos) siejimo su konkrečiomis technologijomis veng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alumo principas - leidžia diferencijuoti skirtingas technologijas pagal jų patikimumą (elektroninis parašas, saugus elektroninis parašas)</a:t>
            </a:r>
            <a:r>
              <a:rPr b="0" lang="en-GB"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8T14:08:50Z</dcterms:created>
  <dc:creator>Tomas Lamanauskas</dc:creator>
  <dc:description/>
  <dc:language>en-US</dc:language>
  <cp:lastModifiedBy>Tomas</cp:lastModifiedBy>
  <dcterms:modified xsi:type="dcterms:W3CDTF">2006-09-04T08:32:05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72018352</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